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B68-6BAE-45A8-8F72-7420C23A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2F2-F955-4C52-81D0-9E15FA60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AC6-6C31-4BB2-95E1-3A5905F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1D8-DB28-4D8F-97A3-B4E04517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BB4-4BB1-48FA-8256-F2174A80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647-B4E1-4884-9ECB-07ACE4AB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567-C907-4627-B56B-C396B5DD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F23-888C-416E-B02F-659F4C0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040-DE61-4BB0-A515-1C680644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C86-0442-4CA7-A7FE-AA48A42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A23-3BDE-450B-860E-4C49454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9EB-708A-4B13-B29C-FDEA2A2F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2B2-0B5B-4E48-8260-656355611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eplicaplants.co.uk/new-plants-057.jpg&amp;imgrefurl=http://juanolator.blogspot.com/2007_11_01_archive.html&amp;usg=__L3Ogy1CpMyCVzNqwmnmuY88K8D8=&amp;h=524&amp;w=450&amp;sz=39&amp;hl=en&amp;start=3&amp;tbnid=xUguY8VDp7aI3M:&amp;tbnh=132&amp;tbnw=113&amp;prev=/images%3Fq%3Dplant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grow.ars-informatica.ca/images/umbrella_plants.jpg&amp;imgrefurl=http://grow.ars-informatica.ca/&amp;usg=__CVoIUfe2GG6eNtbrbGKAcjrCiPU=&amp;h=450&amp;w=600&amp;sz=83&amp;hl=en&amp;start=7&amp;tbnid=V7dWTyU6n5O6UM:&amp;tbnh=101&amp;tbnw=135&amp;prev=/images%3Fq%3Dplants%26gbv%3D2%26hl%3D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1.istockphoto.com/file_thumbview_approve/2692541/2/istockphoto_2692541_blue_primrose_potted_plant.jpg&amp;imgrefurl=http://boards.weddingbells.ca/showflat.php%3FCat%3D%26Number%3D2698970%26Main%3D2695756&amp;usg=__zajmoIlNWl-g7sar7kZIdzRQNiE=&amp;h=253&amp;w=380&amp;sz=63&amp;hl=en&amp;start=19&amp;tbnid=IkFlYK99M6ja9M:&amp;tbnh=82&amp;tbnw=123&amp;prev=/images%3Fq%3Dpotted%2Bplants%26gbv%3D2%26hl%3Den%26sa%3DX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imagecloset.com/9/636d2f58bac15ea42e90080d07792bd2/bone_cartoon_193590_tnb.png&amp;imgrefurl=http://profile.myspace.com/index.cfm%3Ffuseaction%3Duser.viewProfile%26friendID%3D30487182&amp;usg=__V2Tkc8jTBewsisIYTaB2g7jQwak=&amp;h=350&amp;w=224&amp;sz=73&amp;hl=en&amp;start=3&amp;tbnid=VAd2PUDt35q8TM:&amp;tbnh=120&amp;tbnw=77&amp;prev=/images%3Fq%3Dbroken%2Bbone%2B%2Bcartoon%26gbv%3D2%26hl%3Den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80773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nformal Roman"/>
              </a:rPr>
              <a:t>Ancient Egyptian Science and Medicine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Emily E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Sara Bar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Gabbi St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019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ffff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"/>
              </a:rPr>
              <a:t>Question 1: What is the definition of an astronomer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2057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45720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What is the the term used for practice of creating medicines from plant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267080"/>
            <a:ext cx="1989000" cy="2324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67080"/>
            <a:ext cx="285300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124080"/>
            <a:ext cx="19573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04920"/>
            <a:ext cx="73911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rue or false?  The Egyptians were still unable set bones because the practice wasn’t discovered yet.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44808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21640" y="3124080"/>
            <a:ext cx="232236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9880" y="3124080"/>
            <a:ext cx="26542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43434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520"/>
            <a:ext cx="807732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Papyru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 and fin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What is the name of the dog constellation that the Ancient Egyptians saw at about the same time that the Nile began to rise rapid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886200"/>
            <a:ext cx="41907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6094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ank You for taking this quiz. These will be graded and anyone who gets everything right will be put into a raffle. The winner gets a pri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27432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47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6:14Z</dcterms:created>
  <dc:creator>Default</dc:creator>
  <dc:description/>
  <dc:language>en-US</dc:language>
  <cp:lastModifiedBy>William Ehrlich</cp:lastModifiedBy>
  <dcterms:modified xsi:type="dcterms:W3CDTF">2009-02-04T01:08:18Z</dcterms:modified>
  <cp:revision>5</cp:revision>
  <dc:subject/>
  <dc:title>Slide 1</dc:title>
</cp:coreProperties>
</file>